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AB9-2942-4C0A-972E-2370A5EB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E58-D1B8-49AB-B37A-53B36E2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9D7F0-D670-472A-A56C-AE2F3F1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594B4-2CB3-4B39-839B-E20B20CB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ADB39-F58B-4C4C-A172-F4A8CD2E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3CDC-180D-42CF-AB3D-4C092E9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9E986-6E02-43B3-8D05-3C2ED28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F47E9-5BD0-4D05-AD10-C9D2A77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483FC-0A0C-4E6B-8CD8-D36CD7C1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9A53E-D799-4BFB-AF42-F6BB5BB8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422A6-1A65-4AD7-B020-568F915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09802-8237-43C1-A709-30BC97FE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609-AE7E-4444-8C57-4F82CEF4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47418-5526-45DF-998F-935DBFF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B943F-DDF6-454E-9015-6AF820B6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CD8D4-2E42-4B3F-85C7-FDF4A73D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8DB2F-AA96-485F-BE6A-3C15FAC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79D9D-42EF-472D-93F7-8037CABF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69D45-D85F-4808-994D-61D3ECA1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F7D23-EBC2-455F-AB49-1E787B7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E855-B7D0-4F7C-A157-D804094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1A1E0-5213-4755-BB7F-F24A579A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28AA3-A2A6-4FB9-BA0E-9E0072AF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B46-284A-4483-B726-1EF27BC3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6817D-F940-4E0D-A8C9-1509347D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B74F3-46D6-4C80-981F-4C7D5D9D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FBA9-A582-402B-AA8E-29A6F884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29DA9-9DFA-4C2D-B8D8-DF1DF935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B0EF0-DDEB-4BD0-8D8A-FCF068C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DDC05-7695-4E28-B2EA-47F201EA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1C88C-CB36-4371-8973-60146038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B4D70-95C4-47D4-BDA2-C2FBD3A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CE434-F6E1-4DD2-AC26-13B4BB32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84FA2-14AA-45E5-9E30-FC669D8D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0196-02AD-4B76-8597-291113B2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829B7-A0E3-45A2-87C5-85568BB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41992-F35F-4D9F-B04E-44D68941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BB60-46A8-426A-90E0-587199C5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BA37C-75F6-41E7-B25A-BCEE878E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1B8B8-5E20-41EE-9A7E-AE6A173A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F6756-5855-4DA2-9469-2868D3F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CE700-0D16-4687-935F-8EF95877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F99EE-CDE0-48A5-A1CD-AFBB11E9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A2180-B236-47F6-984B-B2309503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34C68-0B31-4160-AE34-61A140E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5AD-D316-4274-AF5B-C902ED8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A6D8A-E12F-49E2-97D9-11413E1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D5D70-6F6D-47CA-AEE6-F6FD45B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E9E54-0E2F-494D-A445-31E00D21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748A0-F0C7-4051-B807-4A1F97B5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11735-CE2C-4EA4-AB34-8483CEA7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30238-C72A-4A00-8F0D-42CE9D2A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3ACAE-311D-4D00-9519-CF669AF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4E024-5AC4-429D-B8DC-4B2B8E9C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4A515-73E7-4B91-A148-DA43733C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6A766-A42B-44D1-BADF-8687A56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7CD3-2F30-4D6C-8067-4C0FFAFF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A9B9E-74FB-4D91-9655-5DBCCE9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7A435-54C1-4CEF-B3D1-74ED722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88795-A43C-4E22-82D1-E300817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4A03D-D555-4374-8464-C9C8FDF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92911-EF2E-48E4-811F-E2D5716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8503-5344-49E6-B6DE-D2658503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8C728-8284-46FD-A351-C67C94F9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FF6F4-23BB-4CCC-BF2B-49B57775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152B4-658A-4160-802C-4C18734B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58148-D56D-4482-8C8C-6A5A13A9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94D3-5CF0-473E-8238-D5B5AD5D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2A466-A835-458B-A4B9-C8E84B36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EA7CF-BAF2-49EB-AA09-876BDD6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04237-0A74-4B91-9D8B-7EABA64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9EB90-ECE8-4600-8F9B-85048A1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FCFF3-2036-4B87-82B0-2DA3AEE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8ADCC-1D9A-4F50-A966-AED8525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566EF-A7B0-410C-8D0C-5D2DBA8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94861-E7B5-4113-980C-2331968E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29511-FD5C-47ED-BB20-EA5A5CC6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61EEB-D542-4A00-8881-6889C442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CF9F-4F16-4D30-B348-7E23056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3AB6E-4AE7-4E3C-94BF-728CCB3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107F2-5E10-461A-94B4-93BE6036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D374B-104D-4FF1-8423-0689A5C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FB590-032C-4B10-82EE-EE8DFA22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A756C-C079-4188-A4E2-2F165DF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A268B-D047-4013-8562-70EC43D6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1CE82-9450-4CDD-9245-C03ADEE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8B819-4F97-42DB-8010-1B530DD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39C4F-CF81-47DB-A0E0-5BF3533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9BDC1-9F99-4DE0-9AC6-BC9BF290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346-33B4-4014-9DC9-406CCA70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724FB-DA92-43C3-891D-5CF4F0E3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462DC-1B0D-479C-A2E3-FBE448F1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F1A4D-EF74-4905-9604-7BD90344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BE2CE-4F2E-4C47-BC93-51AEB8BC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2BC6C-6895-46B2-9113-64067426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AC7C5-A770-4F13-80DB-85353077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1CFCC-C613-480C-BD73-77CC507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4C6DD-06B1-4088-86AD-E3EF502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E7760-1857-429B-8130-4AA1D5D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13AB8-9294-4679-9F08-5417674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50CA-104D-4930-A852-7041283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A43F5-324F-463D-A15C-48EAD0B7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BF726-C040-4292-8194-5B09C7D0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6C2EC-9CEC-4971-89BD-65EC21EF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658DE-19B1-4143-AE6B-FC25320B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13D26-99F0-4A2F-A951-447DE56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A248A3-C29C-4546-9704-8E3E8B34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904DD-0E50-406F-B4F4-2F717D6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11739-F2BA-47D3-8D19-FBABA91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B0F5A-5BC2-4FA1-994A-E650C13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21A7E-2BC1-4238-BFF8-3F066C7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8FB-2615-408A-ABC1-A968E8EF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A29-B962-4883-9660-58C8809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E299A-783F-452B-8019-AA617BF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3DE87-6A05-4E03-945E-5C10741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28D08-5178-49FA-A606-74309A0C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AB6A0-941E-4827-9410-8E8CD8FB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098ED-36E5-4FC0-97CA-F454BE49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676F8-9783-4F2A-A5CC-60B6BAB3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224E1-F3FC-46FB-ACBA-501F89F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6A564-9D85-4CAE-8CC7-9CBE36C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FD5EF-7D84-4B83-8C20-91CA306F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FE834-FBDE-4C73-8BE9-4AD8B12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CDE6-D62B-48A8-8081-A38B780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E5016-69C5-413A-9E37-8B53784F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5CCD6-7DF5-4F4F-8ADF-A1DDAF9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90046-6529-48B5-9187-E51A2BA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B57EB-403A-45DA-A1CD-CF89AA8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36AA8-2FDD-42C2-B7C4-4D30D85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A163D-88FA-4AC1-AFD0-BA3D9A44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3DA20-FA97-44C6-A6E9-0F6895C2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F36D2-8616-4270-89E5-621C86A8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7CB94-8BE1-4AE6-8731-920C1DE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48156-6357-47D9-9C85-DB9A983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200-8EF8-4142-8D58-969124E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60FBB-C88A-4365-B109-51067DD3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D4EC9-08AC-4F25-8ECD-F512931C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27308-7C0B-4872-8176-A98DFFF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A68F6-0902-444B-9EC7-8E9C865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A770B-62C6-44C6-AB86-089CB4E9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41003-BE33-45E2-B68A-89B8A27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E20C2-7BA6-46FD-8DB8-930AFBEE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2E4BD-5F21-4155-83BB-10E2EDB9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14306-CA3E-4756-BD20-B5B0F609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2CEAE-20F0-4D19-AD7F-450EDC52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D736-E6C4-4111-9517-7E3EFD5C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9F995-980A-4663-8E63-6E633C55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64C43D-FE3D-4E37-BEC6-F53A75E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E7DE80-6EFB-467C-9156-CA1DF6C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7F078-3FD9-4A72-AA22-D8309FE7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AD236-198E-4EDE-94AA-3DAEB223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A340D-92DE-4D41-A07A-E6164CDF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660B7-194D-4468-B418-5F0644B1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CCAD0-252A-447E-84FB-8A80E117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C5DBF-B22B-4BC8-8800-2AF71643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E0B63-B4BA-471E-91B9-0A19619D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62DD-BD3C-4A0E-BCB7-1C4B5AD2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08D45-3C0B-45F1-95B5-11ED13A5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4A163-ACA2-4682-8B9B-8EE3DAAD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13BB6-014C-41FB-9B01-8B76B9A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04B9E-9BAF-47FA-BDA7-F028449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9C49B-B2C1-41B1-AAC9-0094118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534B1-C88C-4FC6-BD6B-56B9DC21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408C5-9192-4EDD-B933-1A1B8AB0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EACB9-CF92-4467-8BEB-8DBA3D1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21D00-4B42-4B6D-8CAD-08D6C61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E8708-5277-494A-8E05-4F9DDABA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89D7-1A7C-47CA-A084-2B73A86C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2E1C0-81C8-4513-A17F-7F2AFFE4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FCD2B-6049-4260-A8FB-DF206A64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945C1-9958-4FFB-AECF-EADE60A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E097-9BEC-4AEF-B6DD-D8F4506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E9B9-DE73-426F-8490-47E1FE15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387D-2C4D-40D7-BE02-57B67E3C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13B5-44BD-411B-AEA8-D553BB7C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69A-A686-437F-8692-893267F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8A0A-CC43-4D53-BC72-A1E03917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809B-DA84-42E3-ACA4-E28C639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8AEFC-4AC5-4698-88FF-A2E67AD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9476-66DA-44E8-848F-7AC2D7E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40A3-A453-4A05-97F6-68F466F0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6259-2BFD-46DC-A5AF-3A4D6B35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7DE9-0182-40E7-964E-603C02C0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2E50-070D-4CB9-8398-AEF01C23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AA9C-2C7F-4A3C-9F0E-758477A9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AE3E-4E4B-42A8-AE6E-BA7704FD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61A-FF42-4AB9-88D3-4D73F96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8AC1-2D3B-4E61-8DD7-F1F5B553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F95F-7222-46CA-BB29-8D9B0F0B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63B8-0A44-4C22-83C4-7F6DB59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0AC0-BC0C-432A-9E3C-C7FAB4E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AB71-9A36-4C9C-BD11-58D5EC7C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3EC7-FD73-4D83-86FF-FB9A428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4162-9FDC-4E0B-9987-EE4775D1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74EE-E4F9-4218-8998-E1EF3B18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D3BA-D9A2-416C-BD4E-D4AF9725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2203-6ABE-4278-83CF-42F54079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F58-5883-4046-B0E5-619C85E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2135-9FC9-4CCE-BDA1-F1CEBC06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70CE1-E3F5-44D6-BDB1-B7207154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FE16A-D26F-4AE5-B3BA-B6C0F0C7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F282-7C7C-48F7-8C79-6CC3501F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C3B93-6826-4C5F-9491-69CC158E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A25D1-FBBA-4349-B07E-8CA36B50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83D0-83BE-4CE1-A328-ADD7873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6606-3660-4675-835C-52377DD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446FD-726E-46CB-A6FF-DA0E926A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C0E6-2756-450E-873A-2415C6CA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889-AE3F-4E50-9273-4B81D28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2056-5615-40DA-9D87-CBB8C307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7FDA-F936-4E59-A9B0-A4257550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C318-0CDB-4FE6-90A3-CA42503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4B7B8-F011-4851-B3FE-5E2602A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50A92-2674-4529-AB31-0590D0B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773E-9A6A-43EB-972F-B2B115E1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BAA2-D0B8-4ABA-B1E0-13E329B5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5F40-F82B-4B5F-BCA6-26FC686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50C1-6784-442D-8351-0DFD7F9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792A1-70F7-4909-BC78-6B4BD58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189-A676-491C-AC75-FCF0831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E049-8ACA-4CDA-92F4-84FF9A3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FBF6-1C3C-46FF-96C1-7E68F9C1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C27EF-7A89-4142-9A85-B216CA9B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6CBC-E3C2-4E00-AB89-8D59E5B1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28BA-379B-47C0-9E7B-D70D0B9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9D4D-0E23-409F-927E-4C0AF8B0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1096-B914-4A27-9D56-4018BAA5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A39D-8DEA-440F-8914-1F7A4E80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23CA9-1EC6-4E9F-A058-57D4EA6D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ACBA-7188-4B71-A854-2DEA98F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ACB-55A3-4EAD-B5A8-2C7DC88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DE1A-D4B6-4461-B681-BFD899B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E35E-9197-4E60-9595-4CB801C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2759-36DD-49BA-850F-28D26820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72AF8-9050-43FF-80EB-D0FA7EF2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E54EC-9D8D-4576-AE70-FFD6A178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35B9-B17C-433A-BE24-9A330616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92B13-0EC8-40B8-A0D3-73A3433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AA16-9398-4202-B317-58F827F2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17BC7-81FD-4095-8343-5444B012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2F91C-3464-4F39-884C-BF1F040B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322-2CEB-4F37-A158-824A4F1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F681-4B65-4561-AEBA-5743C877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EAFD-23A2-4AB7-9668-8F6C520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05EFD-66E5-48BD-9CF5-79B061C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97AF-8846-4790-8997-DB8DD4C4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BD2F-D97E-4561-AB3D-1ED70B9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EB00-7060-4C39-86B4-8684B32A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93DB-6CD0-49B1-A9C6-B4C561BA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B86B2-0971-4324-BF88-8A8778FF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8822B-A9BC-4642-9100-776700A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0C10A-55E7-4F29-A3CD-D8606E73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D91-00DF-48CF-AF70-189A5EB0C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647B-93F5-420C-B6FE-585348ECF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1D1-EE72-4CD6-9007-CB99D48513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218E-60CD-4023-BE2B-370024452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CB4F-FDA9-40B4-B6D5-A32F353C9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818A-B707-45DA-AEEE-613CFFCF0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900-EB33-467C-A03C-8C72709204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EE96-324D-4CF1-97C9-2780FFD7D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5A22-DEF3-4492-99C7-04F24B943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44F7-AF77-4AC2-A5F4-B592C4726D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18A-E7F7-4599-89FF-3242DCFDC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736-064A-4332-9DD2-EAB28EF45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D82-08BF-483C-8463-507C1F0B9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1F13-6541-4728-AB21-0B7BAEAF9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D05-A6F7-4DB5-8834-D1D257D80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123D-4A56-441C-9A0E-73FE7A5857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E510-FF2C-439D-9A28-D4DCEEC44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F2E-AA53-4E3B-A267-21EC90CAA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8E3-EB44-4CB9-BCEA-AC598C963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C79-89F1-46F9-8859-86BE012AA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BC0-A042-43DD-893C-93C65699D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6F6-705F-4A08-AAF7-F02C8124E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4202-4A65-444E-904E-A7C9525A8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627B-0AA7-4568-9D8E-FC6A77010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87FC-C008-47C0-9AB8-F0023B9CB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D197-991F-4D92-92FE-3C241F0A1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F713-8484-4E6A-82E3-837F4032A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DD7C-0BBD-4B5B-8EC1-6426B06A00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5F49-D56D-490B-8443-685A01782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587-BBF6-4880-8495-AB5289A8C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819-935D-4B1F-A233-2559D972A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76D-C376-41A7-BE50-7892CA04E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3D02-46BC-4709-8764-6812E4361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99CC-2FA2-4DDA-B05A-41DE42497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CCC4-FB62-4873-A0F1-B0B3B259D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503-1D0A-44B4-B3CE-6E8763AF81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2AC5-3846-40A9-BADA-C7EC93793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7A3-2D9A-4D22-97EE-352C4E796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0A3-FC8A-4FFB-B70A-6EA8ABFD5B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AEA-2649-4E9F-9379-6F79DF95A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1000" y="2986200"/>
            <a:ext cx="8982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组合 69635"/>
          <p:cNvGrpSpPr/>
          <p:nvPr/>
        </p:nvGrpSpPr>
        <p:grpSpPr>
          <a:xfrm>
            <a:off x="200160" y="385920"/>
            <a:ext cx="8743680" cy="6283080"/>
            <a:chOff x="200160" y="385920"/>
            <a:chExt cx="8743680" cy="6283080"/>
          </a:xfrm>
        </p:grpSpPr>
        <p:pic>
          <p:nvPicPr>
            <p:cNvPr id="953" name="图片 69633" descr=""/>
            <p:cNvPicPr/>
            <p:nvPr/>
          </p:nvPicPr>
          <p:blipFill>
            <a:blip r:embed="rId1"/>
            <a:stretch/>
          </p:blipFill>
          <p:spPr>
            <a:xfrm>
              <a:off x="200160" y="385920"/>
              <a:ext cx="8743680" cy="60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2"/>
            <a:stretch/>
          </p:blipFill>
          <p:spPr>
            <a:xfrm>
              <a:off x="6804000" y="5815080"/>
              <a:ext cx="2089080" cy="85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1476360" y="31845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180036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2700360" y="4653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2340000" y="530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1908000" y="59482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27200"/>
            <a:ext cx="8591760" cy="6086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511344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124000" y="6335640"/>
            <a:ext cx="158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81040" y="1604880"/>
            <a:ext cx="7981920" cy="36482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708360" y="224784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059280" y="4681440"/>
            <a:ext cx="136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271440" y="1000080"/>
            <a:ext cx="8601120" cy="485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576360" y="2271600"/>
            <a:ext cx="7991280" cy="2314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619280" y="34718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314280" y="237960"/>
            <a:ext cx="8515440" cy="6382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43070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900000" y="55166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900000" y="6107040"/>
            <a:ext cx="698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95200" y="733320"/>
            <a:ext cx="8553600" cy="5791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16000" y="34005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395280" y="4119480"/>
            <a:ext cx="7848720" cy="893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39640" y="521496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95280" y="596412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85840" y="789120"/>
            <a:ext cx="85723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704880" y="2033640"/>
            <a:ext cx="7734240" cy="2790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39640" y="4091040"/>
            <a:ext cx="7561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6:3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